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1053A-3F29-405B-9854-3039E7147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81A90-6ABC-49D0-AE22-DB31247D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469ED-1706-4003-963E-DBEFE756D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BBC6D-D4CE-4E08-BB91-7014B3959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A6E0-49C4-458C-BA26-32731A98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B947-226D-4D7C-93BC-8614FDFA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E970B-EABC-416C-8376-062AE6821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922AA-AACA-4106-BF58-7A453CF5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5C2DB-D205-477D-9E79-03C2E5938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C707-05F5-4102-995A-797E42810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AE81-CA75-46A6-A501-2EB36D49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4F1E-3F52-49D2-916C-0A756AE0B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8FF5-899A-489D-8C9F-68E5559954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egal Background Governing Services to English Language Learners</a:t>
            </a: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Fifth Circuit Court </a:t>
            </a:r>
            <a:r>
              <a:rPr b="1" i="1" lang="en-US" sz="4000" spc="-1" strike="noStrike">
                <a:solidFill>
                  <a:srgbClr val="d1d1cb"/>
                </a:solidFill>
                <a:latin typeface="Arial"/>
              </a:rPr>
              <a:t>Castaned</a:t>
            </a:r>
            <a:r>
              <a:rPr b="1" i="1" lang="en-US" sz="4000" spc="-1" strike="noStrike">
                <a:solidFill>
                  <a:srgbClr val="d1d1cb"/>
                </a:solidFill>
                <a:latin typeface="Arial"/>
                <a:ea typeface="Arial"/>
              </a:rPr>
              <a:t>a</a:t>
            </a:r>
            <a:r>
              <a:rPr b="1" i="1" lang="en-US" sz="4000" spc="-1" strike="noStrike">
                <a:solidFill>
                  <a:srgbClr val="d1d1cb"/>
                </a:solidFill>
                <a:latin typeface="Arial"/>
              </a:rPr>
              <a:t> v. Pickard</a:t>
            </a:r>
            <a:r>
              <a:rPr b="1" lang="en-US" sz="4000" spc="-1" strike="noStrike">
                <a:solidFill>
                  <a:srgbClr val="d1d1cb"/>
                </a:solidFill>
                <a:latin typeface="Arial"/>
              </a:rPr>
              <a:t> (1981)</a:t>
            </a:r>
            <a:endParaRPr b="0" lang="en-US" sz="4000" spc="-1" strike="noStrike">
              <a:solidFill>
                <a:srgbClr val="d1d1cb"/>
              </a:solidFill>
              <a:latin typeface="Arial"/>
            </a:endParaRPr>
          </a:p>
        </p:txBody>
      </p:sp>
      <p:sp>
        <p:nvSpPr>
          <p:cNvPr id="57" name="PlaceHolder 2"/>
          <p:cNvSpPr>
            <a:spLocks noGrp="1"/>
          </p:cNvSpPr>
          <p:nvPr>
            <p:ph/>
          </p:nvPr>
        </p:nvSpPr>
        <p:spPr>
          <a:xfrm>
            <a:off x="457200" y="1599840"/>
            <a:ext cx="8229600" cy="5257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ourt established a three-part test to evaluate the adequacy of a district’s program for ELL students:</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program based on an educational theory recognized as sound by some experts in the field or is considered by experts as a legitimate experimental strategy;</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 programs and practices, including resources and personnel, reasonably calculated to implement this theory effectively; and</a:t>
            </a:r>
            <a:endParaRPr b="0" lang="en-US" sz="2400" spc="-1" strike="noStrike">
              <a:solidFill>
                <a:srgbClr val="ffffff"/>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school district evaluate its programs and make adjustments where needed to ensure language barriers are actually being over c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Supreme Court </a:t>
            </a:r>
            <a:r>
              <a:rPr b="1" i="1" lang="en-US" sz="4000" spc="-1" strike="noStrike">
                <a:solidFill>
                  <a:srgbClr val="d1d1cb"/>
                </a:solidFill>
                <a:latin typeface="Arial"/>
              </a:rPr>
              <a:t>Plyler v. Doe</a:t>
            </a:r>
            <a:r>
              <a:rPr b="1" lang="en-US" sz="4000" spc="-1" strike="noStrike">
                <a:solidFill>
                  <a:srgbClr val="d1d1cb"/>
                </a:solidFill>
                <a:latin typeface="Arial"/>
              </a:rPr>
              <a:t> (1982)</a:t>
            </a:r>
            <a:endParaRPr b="0" lang="en-US" sz="4000" spc="-1" strike="noStrike">
              <a:solidFill>
                <a:srgbClr val="d1d1cb"/>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upreme Court ruled that the Fourteenth Amendment prohibits states from denying a free public education to undocumented immigrant children regardless of their immigrant status.  The court emphatically declared that school systems are not agents of enforcing immigration law, and determined that the burden undocumented aliens may place on an educational system is not and accepted argument for excluding or denying educational services to any stud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371600"/>
            <a:ext cx="7772400" cy="18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d1cb"/>
                </a:solidFill>
                <a:latin typeface="Arial"/>
              </a:rPr>
              <a:t>Title III</a:t>
            </a:r>
            <a:br>
              <a:rPr sz="4000"/>
            </a:br>
            <a:r>
              <a:rPr b="1" lang="en-US" sz="4000" spc="-1" strike="noStrike">
                <a:solidFill>
                  <a:srgbClr val="d1d1cb"/>
                </a:solidFill>
                <a:latin typeface="Arial"/>
              </a:rPr>
              <a:t>of the Elementary and Secondary Schools Act of 2001</a:t>
            </a:r>
            <a:endParaRPr b="0" lang="en-US" sz="4000" spc="-1" strike="noStrike">
              <a:solidFill>
                <a:srgbClr val="d1d1cb"/>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hild Left Behin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Law 107-1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152280" y="264960"/>
            <a:ext cx="88394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ederal mandate holds state educational agencies, local educational agencies, and schools accountable for increases in English language proficiency and core academic content knowledge of limited English proficient students.  It requires states to implement yearly student academic assessments that include, at a minimum, academic assessments in  mathematics and reading or language arts.  These assessments must be aligned with sate academic content and achievement standards.  Each state, school district, and school is expected to make adequate yearly progress toward meeting the state standards.  This progress is measured bye disaggregating data for specified subgroups of the popul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CLB also requires that states provide for an annual assessment of English language proficiency (listening, speaking, reading, and writing in English) of all students identified as limited English proficient in schools served by the state [ref. Title I, SEC. 1111 (a) (7)].  Due to this federal legislation, North Carolina State Board policy mandates that all students who are language minority students must be assessed using the state-identified language proficiency test at initial enrollment.  In addition, students identified as limited English proficient must be assessed annually thereafter during the window of February1 – April 30 until they reach fluency as defined by the state board of educ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396720" y="417600"/>
            <a:ext cx="9540720" cy="387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eceding slides were adapted from inform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 b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 Perez, Lead ESL Teach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barrus County School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d 1/13/2010 fro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ttp://www.randolph.k12.nc.us/Departments/ESL/Pages/LawsGoverningESLProgram.asp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To ensure English Language Learners are properly and adequately served, the following court cases have formed the regulations and guidelines that direct and impact most ESL program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0" y="0"/>
            <a:ext cx="9144000" cy="503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le VI of the Civil Rights Act of 1964</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tle VI prohibits discrimination on the grounds of race, color, or national origin by recipients of federal financial assistance.  The Title VI regulatory requirements have been interpreted to prohibit denial of equal access to education because of a language minority student’s limited proficiency in Engli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d1cb"/>
                </a:solidFill>
                <a:latin typeface="Arial"/>
              </a:rPr>
              <a:t>Title VII of the Elementary and Secondary Education Act of 1968</a:t>
            </a:r>
            <a:endParaRPr b="0" lang="en-US" sz="3200" spc="-1" strike="noStrike">
              <a:solidFill>
                <a:srgbClr val="d1d1cb"/>
              </a:solidFill>
              <a:latin typeface="Arial"/>
            </a:endParaRPr>
          </a:p>
        </p:txBody>
      </p:sp>
      <p:sp>
        <p:nvSpPr>
          <p:cNvPr id="45" name="PlaceHolder 2"/>
          <p:cNvSpPr>
            <a:spLocks noGrp="1"/>
          </p:cNvSpPr>
          <p:nvPr>
            <p:ph/>
          </p:nvPr>
        </p:nvSpPr>
        <p:spPr>
          <a:xfrm>
            <a:off x="152280" y="1599840"/>
            <a:ext cx="876312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The Bilingual Education Act recognizes the unique educational disadvantages faced by non-English speaking students.  It establishes a Federal policy to assist educational agencies to serve students with limited English proficiency by authorizing funding to support those efforts.  It also supports professional development and research activities.  Reauthorized in 1994 as part of the Improving America’s Schools Act, Title VII was restructured to provide for an increased state role and give priority  to applicants seeking to develop bilingual proficiency.  The Improving America’s Schools Act modified eligibility requirements for services under Title I so ELLS are eligible for services under that program on the same basis as other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1d1cb"/>
                </a:solidFill>
                <a:latin typeface="Arial"/>
              </a:rPr>
              <a:t>U.S. Department of Health, Education, and Welfare</a:t>
            </a:r>
            <a:br>
              <a:rPr sz="3200"/>
            </a:br>
            <a:r>
              <a:rPr b="1" lang="en-US" sz="3200" spc="-1" strike="noStrike">
                <a:solidFill>
                  <a:srgbClr val="d1d1cb"/>
                </a:solidFill>
                <a:latin typeface="Arial"/>
              </a:rPr>
              <a:t>May 25 Memorandum (1970)</a:t>
            </a:r>
            <a:endParaRPr b="0" lang="en-US" sz="3200" spc="-1" strike="noStrike">
              <a:solidFill>
                <a:srgbClr val="d1d1cb"/>
              </a:solidFill>
              <a:latin typeface="Arial"/>
            </a:endParaRPr>
          </a:p>
        </p:txBody>
      </p:sp>
      <p:sp>
        <p:nvSpPr>
          <p:cNvPr id="4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emorandum clarified a school district’s  responsibilities with respect to national-origin-minority children, stating, in part, that “where inability to speak and understand the English language excludes national origin minority group children from effective participation in the educational program offered by a school district, the district must take affirmative steps to rectify the language deficiency in order to open the instructional program to the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Supreme Court </a:t>
            </a:r>
            <a:r>
              <a:rPr b="1" i="1" lang="en-US" sz="3600" spc="-1" strike="noStrike">
                <a:solidFill>
                  <a:srgbClr val="d1d1cb"/>
                </a:solidFill>
                <a:latin typeface="Arial"/>
              </a:rPr>
              <a:t>Lau v. Nichols</a:t>
            </a:r>
            <a:r>
              <a:rPr b="1" lang="en-US" sz="3600" spc="-1" strike="noStrike">
                <a:solidFill>
                  <a:srgbClr val="d1d1cb"/>
                </a:solidFill>
                <a:latin typeface="Arial"/>
              </a:rPr>
              <a:t> (1974)</a:t>
            </a:r>
            <a:endParaRPr b="0" lang="en-US" sz="3600" spc="-1" strike="noStrike">
              <a:solidFill>
                <a:srgbClr val="d1d1cb"/>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upreme Court ruled that equality of educational opportunity is not achieved by merely providing all students with the same facilities, textbooks, teachers, and curriculum (because) students who do not understand English are effectively foreclosed from any meaningful education.  The court ordered the districts must take affirmative steps to overcome educational barriers faced by non-English speaking stud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Equal Education Opportunities Act of 1974</a:t>
            </a:r>
            <a:endParaRPr b="0" lang="en-US" sz="3600" spc="-1" strike="noStrike">
              <a:solidFill>
                <a:srgbClr val="d1d1cb"/>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is civil rights statute prohibits states from denying equal educational opportunity to an individual on account of his or her race, color, sex or national origin.  The statute specifically prohibits states from denying equal educational opportunity by the failure of an educational agency to take appropriate action to overcome language barriers that impede equal participation by its students in its instructional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Congress Civil Rights Restoration (1988)</a:t>
            </a:r>
            <a:endParaRPr b="0" lang="en-US" sz="3600" spc="-1" strike="noStrike">
              <a:solidFill>
                <a:srgbClr val="d1d1cb"/>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w clarified pervious laws to ensure that discrimination is prohibited throughout an entire institution or agency, if any part receives federal assistance.  If any state and local agencies, school systems, and corporations were found to be in  violation of civil rights laws and refused to comply with the law, all of the federal funding for that institution would be in jeopardy of being withdra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d1cb"/>
                </a:solidFill>
                <a:latin typeface="Arial"/>
              </a:rPr>
              <a:t>Office of Civil Rights Enforcement Policy of 1991</a:t>
            </a:r>
            <a:endParaRPr b="0" lang="en-US" sz="3600" spc="-1" strike="noStrike">
              <a:solidFill>
                <a:srgbClr val="d1d1cb"/>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addresses components within the compliance points:  1) ESL teachers must have been adequately trained and be evaluated by someone familiar with methods being used, 2) Exit criteria should be based on objective standards, 3) schools cannot have policies of “no double services” refusing alternative language service and special education to children needing them and, 4) cannot be categorically excluded from gifted/talented or other special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01:38Z</dcterms:created>
  <dc:creator> </dc:creator>
  <dc:description/>
  <dc:language>en-US</dc:language>
  <cp:lastModifiedBy>MComer</cp:lastModifiedBy>
  <dcterms:modified xsi:type="dcterms:W3CDTF">2010-01-14T15:09:28Z</dcterms:modified>
  <cp:revision>3</cp:revision>
  <dc:subject/>
  <dc:title>Legal Background Governing Services to English Language Learners</dc:title>
</cp:coreProperties>
</file>